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2123B-F475-47A5-A91B-26A78F97C3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1A571-9153-4059-831C-80FE4AC3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E127B-2B6B-4770-9F6B-28347984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9930F-08A1-43E1-9B28-3277E1F43B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6E7B-C7DF-484B-BD8E-6D033DE6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01A77-4B48-4D84-9BD4-0B31024C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594D0-2D03-4359-BC64-7996EB34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882B7-EB8D-4DF0-A63D-4AAFBC52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56A5A-8AC9-4009-B024-2952EA3A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70D02-75B8-412D-B7BE-BA0988ED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84320-ED12-47E5-8860-D49E9144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32E2-3207-469F-BE7C-445381E7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5712FAD2-BDB0-4CC8-AE52-0F662CF3167F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D111E4FB-A080-4622-B01B-8F9541B69853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95400" y="3809880"/>
            <a:ext cx="5715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br>
              <a:rPr sz="2800"/>
            </a:br>
            <a:r>
              <a:rPr b="1" lang="fr-FR" sz="6000" spc="-1" strike="noStrike">
                <a:solidFill>
                  <a:srgbClr val="000000"/>
                </a:solidFill>
                <a:latin typeface="Calibri"/>
              </a:rPr>
              <a:t>PHP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 is PHPPower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400" y="1238400"/>
            <a:ext cx="8858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 class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Written in 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epresenting a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upports writing to different file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's the 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5400" y="1238400"/>
            <a:ext cx="885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Generate slide d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Represent business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how a family slide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xport these to different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PowerPoint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erial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 (more to come)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Need more inf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400" y="1238400"/>
            <a:ext cx="885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heck the project site on GitHub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