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6ACEE-0B43-482F-B500-BD24CAC2C3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70D7A-7AD4-451E-ACCF-88E01168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F6E04-65EF-4ACA-BFC6-793109FA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D605B-EAA5-4591-926C-6148C537C9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652A5-FAB7-4036-8553-0C652153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CE164-59F7-41AB-A132-D5714F43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ECBD3-C99C-441E-AAA2-3DC62692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3FAE9-28E7-4B67-B103-ED4DBB7DC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2C10C-D865-4D44-85CB-62200BCB1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79BE4-50C7-46D3-BC96-ED7DB41D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9599A-88FB-4495-8BE5-8D6DD695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8BC78-F604-41DD-9F19-EBA71055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0" cy="1440"/>
          </a:xfr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61568156-852B-4575-BDDC-88D0F51FA5CB}" type="datetime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8A67592B-97EB-4F12-976C-694D49F0E14D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3" name=""/>
          <p:cNvSpPr/>
          <p:nvPr/>
        </p:nvSpPr>
        <p:spPr>
          <a:xfrm>
            <a:off x="95400" y="3809880"/>
            <a:ext cx="5715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Introduction to</a:t>
            </a:r>
            <a:br>
              <a:rPr sz="2800"/>
            </a:br>
            <a:r>
              <a:rPr b="1" lang="fr-FR" sz="6000" spc="-1" strike="noStrike">
                <a:solidFill>
                  <a:srgbClr val="000000"/>
                </a:solidFill>
                <a:latin typeface="Calibri"/>
              </a:rPr>
              <a:t>PHPPower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5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What is PHPPowerPoi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5400" y="1238400"/>
            <a:ext cx="88581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 class 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Written in PH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Representing a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Supports writing to different file form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8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What's the poi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5400" y="1238400"/>
            <a:ext cx="8858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Generate slide de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Represent business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Show a family slide s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Export these to different form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PowerPoint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Serializ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... (more to come)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1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Need more inf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5400" y="1238400"/>
            <a:ext cx="8858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heck the project site on GitHub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